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3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63.png" ContentType="image/png"/>
  <Override PartName="/ppt/media/image18.png" ContentType="image/png"/>
  <Override PartName="/ppt/media/image60.png" ContentType="image/png"/>
  <Override PartName="/ppt/media/image21.wmf" ContentType="image/x-wmf"/>
  <Override PartName="/ppt/media/image64.png" ContentType="image/png"/>
  <Override PartName="/ppt/media/image22.png" ContentType="image/png"/>
  <Override PartName="/ppt/media/image24.wmf" ContentType="image/x-wmf"/>
  <Override PartName="/ppt/media/image67.png" ContentType="image/png"/>
  <Override PartName="/ppt/media/image28.wmf" ContentType="image/x-wmf"/>
  <Override PartName="/ppt/media/image30.png" ContentType="image/png"/>
  <Override PartName="/ppt/media/image77.png" ContentType="image/png"/>
  <Override PartName="/ppt/media/image40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6.wmf" ContentType="image/x-wmf"/>
  <Override PartName="/ppt/media/image74.png" ContentType="image/png"/>
  <Override PartName="/ppt/media/image5.wmf" ContentType="image/x-wmf"/>
  <Override PartName="/ppt/media/image62.png" ContentType="image/png"/>
  <Override PartName="/ppt/media/image73.png" ContentType="image/png"/>
  <Override PartName="/ppt/media/image59.png" ContentType="image/png"/>
  <Override PartName="/ppt/media/image4.wmf" ContentType="image/x-wmf"/>
  <Override PartName="/ppt/media/image61.png" ContentType="image/png"/>
  <Override PartName="/ppt/media/image72.png" ContentType="image/png"/>
  <Override PartName="/ppt/media/image23.png" ContentType="image/png"/>
  <Override PartName="/ppt/media/image71.png" ContentType="image/png"/>
  <Override PartName="/ppt/media/image29.png" ContentType="image/png"/>
  <Override PartName="/ppt/media/image25.wmf" ContentType="image/x-wmf"/>
  <Override PartName="/ppt/media/image68.png" ContentType="image/png"/>
  <Override PartName="/ppt/media/image31.png" ContentType="image/png"/>
  <Override PartName="/ppt/media/image70.png" ContentType="image/png"/>
  <Override PartName="/ppt/media/image66.png" ContentType="image/png"/>
  <Override PartName="/ppt/media/image27.wmf" ContentType="image/x-wmf"/>
  <Override PartName="/ppt/media/image26.wmf" ContentType="image/x-wmf"/>
  <Override PartName="/ppt/media/image69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013-1190-4E50-BE9E-01B98C96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B94-F004-4FE7-A7C5-56E1647B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3D0-6770-4C4F-8AF4-9E12245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06E-1DBF-4D3A-B809-735A7862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D166-4278-482D-9627-3A5F4A16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8136-31D9-4AA8-85D5-60084EF8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A559-C80D-4020-8060-24CA2131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6302-2329-421A-A81D-14F3C9AF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612B-5914-4740-9531-2FE02320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F3E5-C479-4551-AD88-86E0FB6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B35A-0689-4533-BE45-515F832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FBA-D5AE-4F2C-9E77-D60F06E8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2EBC-D03C-4B13-8CB2-2D4BB25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F52C-664E-4790-B19D-6993E03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1522-6903-4F51-B9B5-D15FD87B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0BDF-0F72-4542-815A-A99C77B8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3F47-7008-4029-8958-D99CC952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A29-C7EB-43BC-B7A4-8ED3189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6E3-9EC8-41BF-A277-F0CEB0C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4DE-54AE-49B3-BBA8-37D986D8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466-6A9F-4FB7-8AFB-FABA7D35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1A8C-01AC-40C4-A3E5-3B3701CA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E95-3EB5-4FCE-98D9-E2777E0F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DC6-7C28-46B2-AE49-38555149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004080" y="4143240"/>
            <a:ext cx="3139920" cy="27147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139920" cy="27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ick to edit the outlin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con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ir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ur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f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x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ven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900-0802-4AC6-AD14-B9A42950DB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6004080" y="4143240"/>
            <a:ext cx="3139920" cy="271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139920" cy="2714760"/>
          </a:xfrm>
          <a:prstGeom prst="rect">
            <a:avLst/>
          </a:prstGeom>
          <a:ln w="0">
            <a:noFill/>
          </a:ln>
        </p:spPr>
      </p:pic>
      <p:sp>
        <p:nvSpPr>
          <p:cNvPr id="45" name="Łącznik prosty 8"/>
          <p:cNvSpPr/>
          <p:nvPr/>
        </p:nvSpPr>
        <p:spPr>
          <a:xfrm flipH="1">
            <a:off x="4570560" y="1500120"/>
            <a:ext cx="2880" cy="4716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Łącznik prosty 9"/>
          <p:cNvSpPr/>
          <p:nvPr/>
        </p:nvSpPr>
        <p:spPr>
          <a:xfrm flipH="1" flipV="1">
            <a:off x="500040" y="1499760"/>
            <a:ext cx="8215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lick to edit the outline text format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con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ird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ur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f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ix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venth Outline Level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FBB6-2BE0-484B-8E74-CD8C9FC223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Grafika komputer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Dr inż. Michał Kruk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spółrzędne jednorod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2219400" y="2666880"/>
            <a:ext cx="470520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Operacje geometryczne we współrzędnych jednorod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Przesunięcie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Skalowanie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717640" y="2209680"/>
            <a:ext cx="3706920" cy="139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2895480" y="4800600"/>
            <a:ext cx="36338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Operacje geometryczne we współrzędnych jednorodn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Obrót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438280" y="2728800"/>
            <a:ext cx="46278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bi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zględem OX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zględem OY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Pochylenia: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1524240" cy="858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3821040" y="2819520"/>
            <a:ext cx="1436760" cy="96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971800" cy="1333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4"/>
          <a:stretch/>
        </p:blipFill>
        <p:spPr>
          <a:xfrm>
            <a:off x="4254480" y="4724280"/>
            <a:ext cx="26035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ładanie przekształc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Złożenie 3 podstawowych przekształceń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688032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ładanie przekształc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Obrót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942840" y="2133720"/>
            <a:ext cx="7256520" cy="2131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70135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kształcenia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We współrzędnych jednorodnych każdy punkt będzie miał 4 współrzędne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286000" cy="14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685800" y="2971800"/>
            <a:ext cx="34196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zesunięcie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838080" y="1762200"/>
            <a:ext cx="57247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kalowanie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5800" y="1662120"/>
            <a:ext cx="57816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brót wokół osi 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486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odstawowe przekształcenia geometr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Operując na milionach punktów ważne jest aby: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Operacje można było zapisać w sposób jedno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Opis operacji był pros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Wykonanie było efektyw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Przekształcenia opisuje się w postaci rachunku macierzowego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askerville Old Face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’ = </a:t>
            </a:r>
            <a:r>
              <a:rPr b="1" lang="pl-PL" sz="2400" spc="-1" strike="noStrike">
                <a:solidFill>
                  <a:srgbClr val="000000"/>
                </a:solidFill>
                <a:latin typeface="Baskerville Old Face"/>
              </a:rPr>
              <a:t>M</a:t>
            </a: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*</a:t>
            </a:r>
            <a:r>
              <a:rPr b="1" lang="pl-PL" sz="2400" spc="-1" strike="noStrike">
                <a:solidFill>
                  <a:srgbClr val="000000"/>
                </a:solidFill>
                <a:latin typeface="Baskerville Old Face"/>
              </a:rPr>
              <a:t>P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gdzie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P – współrzędne punktu początkowego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P’ - – współrzędne punktu wynikowego,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M – macierz przekształcenia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92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brót wokół osi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296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brót wokół osi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219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kształcenia odwrot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Jeśli macierz M opisuje pewną transformację geometryczną, przekształcenie współrzędnych jest opisane równaniem              i jeśli istnieje przekształcenie odwrotne opisane macierzą to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Uwaga! Liczenie macierzy odwrotnej jest pracochłonne ( nieefektywne). Często lepiej zastosować inną operację. Np. w translacji lepiej przesunąć punkt o wektor z przeciwnym zwrotem niż liczyć macierz odwrotną.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68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P'=M\cdot P"/>
          <p:cNvPicPr/>
          <p:nvPr/>
        </p:nvPicPr>
        <p:blipFill>
          <a:blip r:embed="rId1"/>
          <a:stretch/>
        </p:blipFill>
        <p:spPr>
          <a:xfrm>
            <a:off x="7543800" y="2133720"/>
            <a:ext cx="1041480" cy="15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P=M^{-1}\cdot P'"/>
          <p:cNvPicPr/>
          <p:nvPr/>
        </p:nvPicPr>
        <p:blipFill>
          <a:blip r:embed="rId2"/>
          <a:stretch/>
        </p:blipFill>
        <p:spPr>
          <a:xfrm>
            <a:off x="3505320" y="2819520"/>
            <a:ext cx="16160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 – składanie przekształceń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askerville Old Face"/>
              </a:rPr>
              <a:t>Celem jest przekształcenie odcników z rysunku a) do postaci pokazanej w rysunku b) 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askerville Old Face"/>
              </a:rPr>
              <a:t>Realizacja w 4 krokach: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askerville Old Face"/>
              </a:rPr>
              <a:t>Przesunięcie P1 do początku układu współrzęd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askerville Old Face"/>
              </a:rPr>
              <a:t>Obrót wokół osi Y tak, aby odcinek P1P2 znalazł się na płaszczyźnie Y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askerville Old Face"/>
              </a:rPr>
              <a:t>Obrót wokół osi X, aby odcinek P1P2 znalazł się na osi 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askerville Old Face"/>
              </a:rPr>
              <a:t>Obrót wokół osi Z, aby odcinek P1P3 znalazł się na płaszczyźnie Y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998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 1 – przesunięcie do początku układu współrzęd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833640" cy="1322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32767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 2 – obrót wokół osi 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562720" cy="4525920"/>
          </a:xfrm>
          <a:prstGeom prst="rect">
            <a:avLst/>
          </a:prstGeom>
          <a:ln w="0">
            <a:noFill/>
          </a:ln>
        </p:spPr>
      </p:pic>
      <p:sp>
        <p:nvSpPr>
          <p:cNvPr id="181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960640" cy="1976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243320" cy="209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4"/>
          <a:stretch/>
        </p:blipFill>
        <p:spPr>
          <a:xfrm>
            <a:off x="457200" y="3886200"/>
            <a:ext cx="426708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 3 – obrót wokół osi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943600" cy="4525920"/>
          </a:xfrm>
          <a:prstGeom prst="rect">
            <a:avLst/>
          </a:prstGeom>
          <a:ln w="0">
            <a:noFill/>
          </a:ln>
        </p:spPr>
      </p:pic>
      <p:sp>
        <p:nvSpPr>
          <p:cNvPr id="187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6191280" y="1600200"/>
            <a:ext cx="2952720" cy="2104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3962520" cy="111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4"/>
          <a:stretch/>
        </p:blipFill>
        <p:spPr>
          <a:xfrm>
            <a:off x="457200" y="2781360"/>
            <a:ext cx="5210280" cy="419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5"/>
          <a:stretch/>
        </p:blipFill>
        <p:spPr>
          <a:xfrm>
            <a:off x="457200" y="3505320"/>
            <a:ext cx="5033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 4 – obrót wokół osi 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6095880" cy="4525920"/>
          </a:xfrm>
          <a:prstGeom prst="rect">
            <a:avLst/>
          </a:prstGeom>
          <a:ln w="0">
            <a:noFill/>
          </a:ln>
        </p:spPr>
      </p:pic>
      <p:sp>
        <p:nvSpPr>
          <p:cNvPr id="194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6467400" y="1600200"/>
            <a:ext cx="2676600" cy="2162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5334120" cy="303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4"/>
          <a:stretch/>
        </p:blipFill>
        <p:spPr>
          <a:xfrm>
            <a:off x="457200" y="1905120"/>
            <a:ext cx="4919760" cy="725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5"/>
          <a:stretch/>
        </p:blipFill>
        <p:spPr>
          <a:xfrm>
            <a:off x="685800" y="3809880"/>
            <a:ext cx="54864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kładanie przekształceń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Obrót obiektu o zadany kąt wokół dowolnej osi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Dana jest oś obrotu opisana 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dwoma punktami 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Punkty obiektu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Kąt obrotu 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5457960" y="2247840"/>
            <a:ext cx="3609720" cy="293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3505320" y="3429000"/>
            <a:ext cx="2514600" cy="37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3"/>
          <a:stretch/>
        </p:blipFill>
        <p:spPr>
          <a:xfrm>
            <a:off x="2895480" y="5029200"/>
            <a:ext cx="390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i proced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457200" y="1709640"/>
            <a:ext cx="65530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Baskerville Old Face"/>
              </a:rPr>
              <a:t>Podstawowe przekształc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Elementarne transformacje 2D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askerville Old Face"/>
              </a:rPr>
              <a:t>Przesunięcie (translacj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askerville Old Face"/>
              </a:rPr>
              <a:t>Zmiana ska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askerville Old Face"/>
              </a:rPr>
              <a:t>Obrót wokół środka układu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znaczenie wektora osi obro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686040" cy="2857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6248160" cy="1416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152280" y="3429000"/>
            <a:ext cx="4238640" cy="1486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542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 1 – przesunięcie o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4314960" cy="3381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5029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Krok 2 – Obrócenie osi obrotu tak, aby stała się współliniowa z osią 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42880" y="1600200"/>
            <a:ext cx="4029120" cy="3191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609480" y="4905360"/>
            <a:ext cx="46008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znaczenie kąta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1246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znaczenie kąta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162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yznaczenie macierzy obro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114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Wynik położenia wektora u na płaszczyznę x-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4348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50385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ót o kąt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457200" y="1538280"/>
            <a:ext cx="5086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ót o kąt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029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cierz obro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Macierz obrotu o kąt </a:t>
            </a:r>
            <a:r>
              <a:rPr b="0" lang="el-GR" sz="3200" spc="-1" strike="noStrike">
                <a:solidFill>
                  <a:srgbClr val="000000"/>
                </a:solidFill>
                <a:latin typeface="Baskerville Old Face"/>
              </a:rPr>
              <a:t>β</a:t>
            </a: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 względem osi Y dana jest: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441936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sunię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248520" y="1496880"/>
            <a:ext cx="2236680" cy="386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37450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4627800" cy="112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17938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rok 3 Obrót o kąt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Macierz obrotu o kąt </a:t>
            </a:r>
            <a:r>
              <a:rPr b="0" lang="el-GR" sz="3200" spc="-1" strike="noStrike">
                <a:solidFill>
                  <a:srgbClr val="000000"/>
                </a:solidFill>
                <a:latin typeface="Baskerville Old Face"/>
              </a:rPr>
              <a:t>β</a:t>
            </a: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 względem osi Z dana jest: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828800" y="2776680"/>
            <a:ext cx="6172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ransformacje odwrot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105520" cy="1971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47815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blemy dokład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Reprezentacja liczb rzeczywistych jest zawsze przybliżeniem!!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askerville Old Face"/>
              </a:rPr>
              <a:t>Przy dokonywaniu wielu zaokrągleń pojawia kumuluje się błąd, który w przypadku grafiki może być widoczny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2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blemy dokład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askerville Old Face"/>
              </a:rPr>
              <a:t>Zawsze należy pamiętać o błędzie w arytmetyce liczb rzeczywistych</a:t>
            </a:r>
            <a:endParaRPr b="0" lang="en-US" sz="28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55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2146320" cy="3263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4876920" y="2819520"/>
            <a:ext cx="2108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owanie jednorodne sx=sy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kalowanie niejednorodne sx~=sy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waga! Przy skalowaniu obiekt zmienia położenie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162840" y="1600200"/>
            <a:ext cx="2219040" cy="2724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33520" y="2306520"/>
            <a:ext cx="551016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Obiekt również zmieni pozycję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6467760" cy="64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6431040" cy="127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3"/>
          <a:stretch/>
        </p:blipFill>
        <p:spPr>
          <a:xfrm>
            <a:off x="1905120" y="4267080"/>
            <a:ext cx="42354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blem przesunię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jednolicenie wszystkich operacji do mnożenia – w translacji – dodawanie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zukiwanie a,b,c,d dla danego wektora przesunięcia może być kłopotliwe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adto punkt P(0,0) byłby punktem stałym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12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\begin{bmatrix} x_p+T_X \\  y_p+T_Y \\  \end{bmatrix}=\begin{bmatrix} a &amp;  b \\ c &amp;  d \\ \end{bmatrix}\cdot \begin{bmatrix} x_p \\ y_p \\  \end{bmatrix}"/>
          <p:cNvPicPr/>
          <p:nvPr/>
        </p:nvPicPr>
        <p:blipFill>
          <a:blip r:embed="rId1"/>
          <a:stretch/>
        </p:blipFill>
        <p:spPr>
          <a:xfrm>
            <a:off x="3352680" y="3886200"/>
            <a:ext cx="180036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spółrzędne jednorod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osób reprezentacji punktów 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wymiarowych za pomocą 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+ 1 współrzędnych 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unkt w przestrzeni dwuwymiarowej (na płaszczyźnie) opisuje para liczb (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), we współrzędnych jednorodnych trójka (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); podobnie punkt trójwymiarowy we współrzędnych jednorodnych reprezentuje czwórka (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askerville Old Face"/>
              </a:rPr>
              <a:t>Dzięki wprowadzeniu współrzędnych jednorodnych wszystkie operacje mogą być wykonywane z użyciem macierzowego mnożeni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786120" y="4952880"/>
            <a:ext cx="1571760" cy="22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743280" y="5334120"/>
            <a:ext cx="1657440" cy="32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3581280" y="5943600"/>
            <a:ext cx="561960" cy="438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4"/>
          <a:stretch/>
        </p:blipFill>
        <p:spPr>
          <a:xfrm>
            <a:off x="4800600" y="5943600"/>
            <a:ext cx="533520" cy="438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5952960" y="5943600"/>
            <a:ext cx="524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spółrzędne jednorod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ranslację na płaszczyźnie współrzędnych jednorodnych można sobie wyobrazić jako umieszczenie płaszczyzny, na której pracujemy, w trójwymiarowym układzie współrzędnych, w taki sposób, aby nie przechodziła ona przez początek układu współrzędnych.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ranslacja na płaszczyźnie (ale już jako macierz 3x3) da poprawne rozwiązanie, gdyż punkt stały – początek układu współrzędnych jest poza płaszczyzną, na której jest wykonywana operacja. Jednocześnie, aby wynik operacji znajdował się na tej samej płaszczyźnie, najprościej operować na współrzędnych znormalizowanych, czyli pracować na płaszczyźnie z=1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leży pamiętać, że gdy któraś z operacji da w wyniku współrzędne nieznormalizowane, należy je znormalizować (inaczej pracujemy na innej płaszczyźnie)</a:t>
            </a:r>
            <a:endParaRPr b="0" lang="en-US" sz="20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123" name="Symbol zastępczy stop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rafika komputerowa - Michał Kr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K</cp:lastModifiedBy>
  <dcterms:modified xsi:type="dcterms:W3CDTF">2011-03-09T15:35:11Z</dcterms:modified>
  <cp:revision>2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